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8B6-44BD-4022-86CA-6B19BD40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29B-AC29-4D33-A3A9-E173667B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1B8-13E2-484E-A423-0A9A486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69C-63C3-4C7D-B3DC-0F1CCABC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796-F957-480E-9D24-32F403B4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0DE-2841-4B6E-B997-0EAC025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A50-9C75-4708-A871-AEC35C64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CAF-18B6-4EA5-9675-B269E94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CF5-CCB7-4B21-968B-AD4897C8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91C-6BF0-433E-A27E-4D062BDB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EBB-41A8-43CE-8332-E162D0C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009-BDB7-4778-AD83-E2C2FC62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4A60-4574-45C6-AB69-5B7AEBC22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avourite Place to play at St Joseph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om 4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332000" y="2205000"/>
          <a:ext cx="250812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205000"/>
                    <a:ext cx="250812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476360" y="620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950080"/>
            <a:ext cx="76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   am   swinging on the monkey  b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hay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5591160" y="836640"/>
          <a:ext cx="5173560" cy="46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91160" y="836640"/>
                    <a:ext cx="5173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50920" y="3860640"/>
            <a:ext cx="59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 am playing soccer with Adam and Nikolas on the grass area. Mich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530064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m skipping on the play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Zya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2637000"/>
          <a:ext cx="2662200" cy="24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37000"/>
                    <a:ext cx="2662200" cy="24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788000" y="1197000"/>
          <a:ext cx="3168720" cy="23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197000"/>
                    <a:ext cx="3168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4437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 like playing tag on the playground with Kaitlin.  I am chasing Kaitlin. Amber-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571760" y="517680"/>
          <a:ext cx="6168960" cy="51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1760" y="517680"/>
                    <a:ext cx="61689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24000" y="432756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like playing on the monkey bars and it is really funny when Amber tickles me and I have to drop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ikay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093080" y="1989000"/>
          <a:ext cx="1834920" cy="21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989000"/>
                    <a:ext cx="183492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9280" y="5229360"/>
            <a:ext cx="835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  was playing bullrush and I was running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4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55556E-006 L -0.73229 0.01043 E">
                                      <p:cBhvr>
                                        <p:cTn id="1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971640" y="1197000"/>
          <a:ext cx="5557680" cy="36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97000"/>
                    <a:ext cx="5557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 can go on top the monkey bars, under them and along.  Charma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5356E-006 L 0.27899 -0.00208 E">
                                      <p:cBhvr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2359080" y="907920"/>
          <a:ext cx="509256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9080" y="907920"/>
                    <a:ext cx="50925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501336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 am walking along  Cal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050920" y="-458640"/>
          <a:ext cx="3946680" cy="44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-458640"/>
                    <a:ext cx="394668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55640" y="5084640"/>
            <a:ext cx="7631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 am hoping on the hopscotch with Samantha waiting for her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rl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203640" y="765000"/>
          <a:ext cx="2676600" cy="428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765000"/>
                    <a:ext cx="267660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79280" y="616572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am swinging along the bars with Ch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02:44:02Z</dcterms:created>
  <dc:creator>St Joseph's</dc:creator>
  <dc:description/>
  <dc:language>en-US</dc:language>
  <cp:lastModifiedBy>St Joseph's</cp:lastModifiedBy>
  <dcterms:modified xsi:type="dcterms:W3CDTF">2008-06-20T02:44:40Z</dcterms:modified>
  <cp:revision>2</cp:revision>
  <dc:subject/>
  <dc:title>Our Favourite Place to play at St Joseph</dc:title>
</cp:coreProperties>
</file>